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3D4B-A95C-4B2D-8E34-0B2ACAE39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4C25-8DF0-4E88-85B5-76B041337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AC5D-A727-4F1C-BE8C-1D2E87D18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EDFC-BDDA-473B-B23F-7628B317C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3A23-5FC0-4DAA-B37E-65AD26CD35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0177-5D92-41ED-A92C-231E3BA0D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2D8C-1989-4923-B85B-6D6F913C8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CC2F-5D28-468B-A64D-D7A87A291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B0F7-1F78-461B-A945-86E203D7F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3C85-95DD-4ADE-BCA1-3597E3CCA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2453-78F8-4D91-8FEF-16CAA8F3C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FD6A-033A-4C6A-8B43-39B3C42DB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BCEC-3826-425D-8797-69D6A494A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7851-4CCD-4C60-A57C-98DA5E60A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EE11-311B-4F5A-8B0F-5EEC7713B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9B47-1E7B-45B0-84A2-8595556E6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6473-6A8A-4383-A318-3E735EAB3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9C5D-CDFA-44A3-B52F-B73962216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3A09-A7F5-4206-AC53-64E75CCEE75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440" y="64897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2009 South-Western,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8 Projects\C21 Accounting\C21 Acct Covers\C21 Accounting Cover Images_Green\Gilbertson_0538447567_amzn.jpg"/>
          <p:cNvPicPr/>
          <p:nvPr/>
        </p:nvPicPr>
        <p:blipFill>
          <a:blip r:embed="rId2"/>
          <a:stretch/>
        </p:blipFill>
        <p:spPr>
          <a:xfrm>
            <a:off x="0" y="23760"/>
            <a:ext cx="96048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440" y="64897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2009 South-Western,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8 Projects\C21 Accounting\C21 Acct Covers\C21 Accounting Cover Images_Green\Gilbertson_0538447567_amzn.jpg"/>
          <p:cNvPicPr/>
          <p:nvPr/>
        </p:nvPicPr>
        <p:blipFill>
          <a:blip r:embed="rId2"/>
          <a:stretch/>
        </p:blipFill>
        <p:spPr>
          <a:xfrm>
            <a:off x="0" y="23760"/>
            <a:ext cx="96048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Accounting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A27C-5F91-456A-B0AD-63EA5216DF7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CCOUNTING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C:\Documents and Settings\mcm08@fuse.net\My Documents\2005 Business Projects\Slides for Century 21 Accounting\Blue\ch01\C21_blue_0101.jpg"/>
          <p:cNvPicPr/>
          <p:nvPr/>
        </p:nvPicPr>
        <p:blipFill>
          <a:blip r:embed="rId1"/>
          <a:stretch/>
        </p:blipFill>
        <p:spPr>
          <a:xfrm>
            <a:off x="628560" y="2862360"/>
            <a:ext cx="7886880" cy="1131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E600-2D13-4816-803E-C8BC996FE6D6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’s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3:39Z</dcterms:created>
  <dc:creator>M. C. McLaughlin</dc:creator>
  <dc:description/>
  <dc:language>en-US</dc:language>
  <cp:lastModifiedBy>image</cp:lastModifiedBy>
  <dcterms:modified xsi:type="dcterms:W3CDTF">2012-08-30T19:48:20Z</dcterms:modified>
  <cp:revision>16</cp:revision>
  <dc:subject/>
  <dc:title>Lesson 1-1</dc:title>
</cp:coreProperties>
</file>